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CF9-7FC8-4249-B469-31276A46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D3B-D36F-428C-942D-1B177585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C68-F159-465C-AA77-E3CD1F5A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6DB-953A-49D1-9AE3-5BE3818B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D13-41F2-4F29-8C3B-C028E525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67A-F694-4536-AC9F-90049869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1CF-39BF-4ABF-9078-9875AC0F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0E7-E1F9-4CBB-A2D7-D21528D5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91B-F455-48D5-BDA8-A8082CE1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20F-E4BF-49DD-9096-5095C27B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C5E-0AB5-476E-92AD-662D68F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4FA-66E0-4E8A-82C5-A661F87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0600-576F-4E63-981F-C8115AABD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civilwarhome.com/1manassa.htm" TargetMode="External"/><Relationship Id="rId3" Type="http://schemas.openxmlformats.org/officeDocument/2006/relationships/hyperlink" Target="http://americanhistory.about.com/od/civilwarbattles/p/cwbattle_bull1.htm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Bull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n Cutchall &amp; Hali Flick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39621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oefler Tex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oefler Text Black"/>
              </a:rPr>
              <a:t>This was the first major land battle of the Civil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oefler Tex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oefler Text Black"/>
              </a:rPr>
              <a:t>It was also the battle that made the war become real to many. Because, with the deaths of troops and civilians, the reality of war was brough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0"/>
            <a:ext cx="649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3338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Why is this Important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3338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ivilwarhome.com/1manass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mericanhistory.about.com/od/civilwarbattles/p/cwbattle_bull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854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3338"/>
                </a:solidFill>
                <a:uFillTx/>
                <a:latin typeface="Comic Sans MS"/>
              </a:rPr>
              <a:t>Battle of Bull Ru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38"/>
            </a:solidFill>
            <a:miter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 the first battle of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1, 186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ssas, Virgin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was called the First Battle of Bull Run by the north because of a stream where it was f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15228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"/>
              </a:rPr>
              <a:t>When &amp; Where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es and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began advancing on Manas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tested the Confederate lines at a crossing called Blackburns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plans his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cDowell attacked across Sudley Springs 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284400">
            <a:off x="1523880" y="4647960"/>
            <a:ext cx="2934000" cy="20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 Generals for the Confederates at Bull Ru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201312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18288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General P.G.T Beaureg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37240" y="552276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3352680"/>
            <a:ext cx="32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Bernard B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2800" y="58672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Joseph E. John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572000" y="4038480"/>
            <a:ext cx="192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Generals For the Union at Bull R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6194160"/>
            <a:ext cx="56386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General William T. Sherman</a:t>
            </a: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3880" y="3809880"/>
            <a:ext cx="195120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633888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Thomas J. Jac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781680" y="4038480"/>
            <a:ext cx="204012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3200400"/>
            <a:ext cx="33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3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Irvin McDo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92920" y="3962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38"/>
                </a:solidFill>
                <a:latin typeface="Arial"/>
              </a:rPr>
              <a:t>Robert Patt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343400" y="1371600"/>
            <a:ext cx="2087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Extra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ExtraBold"/>
              </a:rPr>
              <a:t>Victory for the Confederate forces.</a:t>
            </a:r>
            <a:r>
              <a:rPr b="1" lang="en-US" sz="3200" spc="-1" strike="noStrike">
                <a:solidFill>
                  <a:srgbClr val="000000"/>
                </a:solidFill>
                <a:latin typeface="Goudy Extra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685800"/>
            <a:ext cx="43531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Californian FB"/>
              </a:rPr>
              <a:t>Who Won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Californian FB"/>
              <a:ea typeface="Californian FB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562720" y="4114800"/>
            <a:ext cx="236196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20462400">
            <a:off x="1143000" y="4495320"/>
            <a:ext cx="248616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Approximately 5,000 men di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Sans"/>
              </a:rPr>
              <a:t>Of those, 3,000 were Union soldie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533520"/>
            <a:ext cx="6091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arrington"/>
              </a:rPr>
              <a:t>How Many People Died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1:56Z</dcterms:created>
  <dc:creator>haliaflickinger</dc:creator>
  <dc:description/>
  <dc:language>en-US</dc:language>
  <cp:lastModifiedBy>haliaflickinger</cp:lastModifiedBy>
  <dcterms:modified xsi:type="dcterms:W3CDTF">2009-03-24T12:49:44Z</dcterms:modified>
  <cp:revision>10</cp:revision>
  <dc:subject/>
  <dc:title>Slide 1</dc:title>
</cp:coreProperties>
</file>